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-360" y="-8429760"/>
            <a:ext cx="360" cy="182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5C80-9A23-470A-88A5-E66910AB6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39B8-BBF5-436C-A33C-9724120B2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26DD-2A30-49F7-B136-0229A380C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400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400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D85B-1DB3-4620-B6CF-6EA09DFCB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0800" y="-146160"/>
            <a:ext cx="769284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CE23-8752-4CE3-9A0E-C117E60EF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400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192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400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616B-5565-4D07-9580-54D4E645B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7259-01BB-4B29-A229-861F80E71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D130-819B-4C64-A894-28F65DFFF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80800" y="-146160"/>
            <a:ext cx="769284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F520-5711-4DBC-8B1F-3B795AC84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9A12-52C5-4BF4-932A-61BFF6712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28D6-0BD4-4399-A9E2-A0FEE0D0E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9B26-1CF8-4D8F-940C-EDA2D9D8D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3680" y="68400"/>
            <a:ext cx="8381880" cy="1141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8640" indent="-27864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3148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97560"/>
            <a:ext cx="1901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0A3A1-A9D5-4741-9A06-AA01B91013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8600" y="6394320"/>
            <a:ext cx="8153280" cy="180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03840" y="64008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3680" y="422280"/>
            <a:ext cx="8381880" cy="1141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08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8600" y="6172200"/>
            <a:ext cx="8153280" cy="144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53960" y="380880"/>
            <a:ext cx="606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NA-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2200"/>
            </a:b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Transition of Slicer2.x Modules to Slicer3: FreeSurfer</a:t>
            </a:r>
            <a:br>
              <a:rPr sz="3000"/>
            </a:b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Integration of FreeSurfer scalar overlays and colour lookup tables into Slicer3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65760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137160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600200"/>
            <a:ext cx="381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</a:rPr>
              <a:t>Nicole Aucoin, BWH (cont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1447920"/>
            <a:ext cx="47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72280" y="2057400"/>
            <a:ext cx="39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Software: Extend MRML color nodes to include FreeSur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colours. Support scalar overlays on mode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362320"/>
            <a:ext cx="2467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1960" y="117000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lan/Expected Challenges/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20" y="117648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7200" y="3747960"/>
            <a:ext cx="41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ccomplished by end of Programming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37640" y="3733920"/>
            <a:ext cx="39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(Add picture to illustrate accomplish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24080" y="4921200"/>
            <a:ext cx="670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is project didn't get time devoted to it during programming week, it's been re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o February/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4921200"/>
            <a:ext cx="2924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3200400"/>
            <a:ext cx="3799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2682720"/>
            <a:ext cx="50292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8040" y="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2007 Project Half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